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0B1-C288-449B-8349-AF9A0B37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94C-00F2-49E1-B550-2F72A97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804-12E2-4CE0-9D78-6CD5E8ED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8A3-8CCD-4BA1-B361-BE3EE412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B8C-8F53-4E29-9834-6BB8191A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2EE-BA80-4D16-9C6F-E920745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A7C-9CD2-44A9-B2B6-DE14D866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2A6-0A5C-45F7-9C83-15098949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9FB-603D-4223-8C37-A411B5D7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209-9750-4D82-BBE4-A4AF3F04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211-7945-40B7-8D9F-04EEE4F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550-B10A-409F-BD4E-3DC487F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92F9-095D-45C4-B3F2-F6C19990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06:58Z</dcterms:modified>
  <cp:revision>4</cp:revision>
  <dc:subject/>
  <dc:title>Slide 1</dc:title>
</cp:coreProperties>
</file>